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59C-67DE-4019-B39D-880FFFB4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D2C-046D-4972-ADD5-9A5D5C7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2B5-BD07-49A6-B6BB-A7AF5AE1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F62-D61A-4DDF-A931-3EF39F09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6D5D-4605-44CA-8E59-14F3731E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F793-3D38-41B6-904C-5811036F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7AFE-6367-47FD-A61C-D707736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78C1-DA9F-4614-9EDA-35C0B040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4F4E-4A22-455D-825D-DB3453AE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808-9ED3-4DCD-A8F2-ED7FC4F3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7B9F-0A3A-4E4C-AED0-8CE66B1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8A2-5235-4842-B4E9-60537D3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30BD-228C-4371-BE0B-7797C754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C201-00F6-4D19-A2A7-C0E4A8D1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5012-3C32-47A6-BE19-AB323F69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D0A0-6A54-427F-AD65-262AA7EC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3536-0C2F-4DC1-A035-726BBCD1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2DB-964A-4894-ACF3-6473EE0C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587-521C-4434-AD27-8292BBE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B86-045B-4D0E-81CC-25EA2D9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7B2-C558-405B-BFA3-B8277607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021-EA3F-4996-B860-6CDC6C8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2F9-3634-42F0-8E45-213F18F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9D8-40EE-40EF-AE85-33911BE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31F-30C2-4969-A8C0-9FF75AF002E0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146-5728-4235-9C57-B4089DE1D5E2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WÓD PROSTO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KWADRA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3240" y="1120320"/>
            <a:ext cx="82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licz obwód prostokąta o długośc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 sumę długości jego bo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81280" y="1494000"/>
          <a:ext cx="409572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494000"/>
                    <a:ext cx="40957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213560" y="405216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B| + |BC| + |CD| + |AD| = 6 cm + 4 cm + 6 cm + 4 cm = 2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4507920"/>
            <a:ext cx="64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. Suma długości boków prostokąta  jest równa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0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040" y="5261040"/>
            <a:ext cx="79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nios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a długości boków prostokąta jest jeg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wod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2640" y="37742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bwód = a + b + a + b = a + a + b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2680" y="4231440"/>
            <a:ext cx="79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my już, że obwód prostokąta jest równy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2 • długość + 2 • szero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2000" y="1403280"/>
          <a:ext cx="40608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1403280"/>
                    <a:ext cx="40608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692360" y="486684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wód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wód przyjęto oznaczać przez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ąd m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10592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24200" y="1665360"/>
          <a:ext cx="26478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4200" y="1665360"/>
                    <a:ext cx="26478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KWADRA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72480" y="4066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 = a + a + a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640" y="490608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dawanie jednakowych składników możemy zastąpić mnoże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6640" y="554256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4 ·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57720" y="1569960"/>
          <a:ext cx="230796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569960"/>
                    <a:ext cx="230796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11059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kwadra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637000" y="1719360"/>
          <a:ext cx="147312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1719360"/>
                    <a:ext cx="147312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22Z</dcterms:modified>
  <cp:revision>48</cp:revision>
  <dc:subject/>
  <dc:title>Slajd 1</dc:title>
</cp:coreProperties>
</file>